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-презентация  по теме "Частицы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6040-DCC2-42C2-AFB6-8622F3476D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Верхний колонтитул 3"/>
          <p:cNvSpPr/>
          <p:nvPr/>
        </p:nvSpPr>
        <p:spPr>
          <a:xfrm>
            <a:off x="0" y="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-презентация  по теме "Частицы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7E27-D849-47DA-85E9-12925D2B2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609D-8391-441E-A2A4-1D6BAA0C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ED77-575B-4F9B-8F30-19D2A151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58E8-B2B6-4AD9-9600-689CEFF9D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E3B8-4928-4456-A4E8-2B98CA95C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CB5D-9DD9-409F-B4DA-B1B02870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7019-F0FA-4C44-A048-E0FDCE34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5411-6F4C-4868-B47A-A2B7475C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88BD-3DC3-42B4-B470-97D7E421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33E3-3752-490B-9A49-7A637151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DA27-D128-4BF2-AB0C-0BE520BC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A8AB-E46C-4CC5-8F12-A0AE649E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BA28-6526-4153-9413-785D30C5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005F-CA1E-4DC8-980A-52BB4A10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E3E1-19EC-49C3-8BCC-5F8D2E60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9265-8FF6-4904-806A-98959146B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2DDF-6257-413F-A08C-290698FC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09DC-D1C4-4381-AB7A-20B5DA0F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B368-692C-407B-A2D6-CF9B3C5B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9804-5E68-4B2A-8ABA-2663DF04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2F0C-2449-4F03-9952-E61929B1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CD45-91A3-49B5-9CB6-0C6ABC86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BF12-20F9-49C9-93CF-C1D3B10C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8007-CB14-43D6-BC57-8DC4AEDC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1A01-6E46-4077-8DE4-0FC305221CD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7AB6-978F-4BB0-9406-4D9AD6AA65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25480" y="312480"/>
            <a:ext cx="67550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42560" y="549360"/>
            <a:ext cx="7705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Arial Narrow"/>
                <a:ea typeface="Arial"/>
              </a:rPr>
              <a:t>ЧАСТИЦ</a:t>
            </a:r>
            <a:r>
              <a:rPr b="1" i="1" lang="en-US" sz="5000" spc="-1" strike="noStrike">
                <a:solidFill>
                  <a:srgbClr val="ffff00"/>
                </a:solidFill>
                <a:latin typeface="Arial"/>
                <a:ea typeface="Arial"/>
              </a:rPr>
              <a:t>Ы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500040" y="4929120"/>
            <a:ext cx="62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Автор работы -  ученики 7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лан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Что такое частица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Разряды частиц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равописание частиц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Употребление и разграничение на письме частиц НЕ и Н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ЧАСТИЦА КАК ЧАСТЬ РЕЧ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500" spc="-1" strike="noStrike">
                <a:solidFill>
                  <a:srgbClr val="ff0000"/>
                </a:solidFill>
                <a:latin typeface="Verdana"/>
              </a:rPr>
              <a:t>Частица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 – служебная часть речи, которая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вносит различные оттенки значения в предложение или служит для образования форм слов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508720" y="3500280"/>
            <a:ext cx="3190680" cy="3149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Разряды частиц: 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99cccc"/>
                </a:solidFill>
                <a:latin typeface="Verdana"/>
              </a:rPr>
              <a:t>Формообразующие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условное наклонение: бы, б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овелительное наклонение: пусть, пускай, да, давай, давайт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cccc"/>
                </a:solidFill>
                <a:latin typeface="Arial"/>
              </a:rPr>
              <a:t>Смысловые: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отрицательные: не, ни, вовсе не, далеко не, отнюдь н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указательные: вон, вот, это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выделительные: только, лишь, почти-то, единственно, исключительно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уточняющие: именно, как раз, прямо, точь-в-точь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усилительные: даже, же, ни, даже и, ведь, уж, всё, всё-таки, ещё, ну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вопросительные: неужели, разве, ли, что, что л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восклицательные: что за, куда как, как, ну 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сомнение: едва ли, вряд ли, авось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равописание частиц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аздельное написание частиц: частицы БЫ, ЛИ, ЖЕ со всеми словами пишутся раздельно. </a:t>
            </a:r>
            <a:r>
              <a:rPr b="0" i="1" lang="ru-RU" sz="2500" spc="-1" strike="noStrike">
                <a:solidFill>
                  <a:srgbClr val="33cccc"/>
                </a:solidFill>
                <a:latin typeface="Verdana"/>
              </a:rPr>
              <a:t>Узнал бы, найду ли, однако ж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ефисное написание частиц: частицы –то и –ка ко всем словам на письме присоединяются с помощью дефиса.</a:t>
            </a: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500" spc="-1" strike="noStrike">
                <a:solidFill>
                  <a:srgbClr val="33cccc"/>
                </a:solidFill>
                <a:latin typeface="Verdana"/>
              </a:rPr>
              <a:t>Дом-то построили, пойдёмте-ка домой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Частица –таки присоединяется дефисом к глаголам и наречиям. </a:t>
            </a:r>
            <a:r>
              <a:rPr b="0" i="1" lang="ru-RU" sz="2500" spc="-1" strike="noStrike">
                <a:solidFill>
                  <a:srgbClr val="33cccc"/>
                </a:solidFill>
                <a:latin typeface="Verdana"/>
              </a:rPr>
              <a:t>Наконец-таки приехал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Употребление и разграничение на письме частиц НЕ и НИ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cccc"/>
                </a:solidFill>
                <a:latin typeface="Verdana"/>
              </a:rPr>
              <a:t>Частица Не употребляется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для отрицания смысла того слова, которое стоит после неё: </a:t>
            </a:r>
            <a:r>
              <a:rPr b="0" i="1" lang="en-US" sz="2100" spc="-1" strike="noStrike">
                <a:solidFill>
                  <a:srgbClr val="33cccc"/>
                </a:solidFill>
                <a:latin typeface="Verdana"/>
              </a:rPr>
              <a:t>Ты мне НЕ друг. НЕ ты мне друг. Ты НЕ друг мн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ри двойном отрицании предложение получает утвердительный смысл: </a:t>
            </a:r>
            <a:r>
              <a:rPr b="0" i="1" lang="en-US" sz="2100" spc="-1" strike="noStrike">
                <a:solidFill>
                  <a:srgbClr val="33cccc"/>
                </a:solidFill>
                <a:latin typeface="Verdana"/>
              </a:rPr>
              <a:t>НЕ могу НЕ согласиться с вам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ростые вопросительно- восклицательные предложения с частицей НЕ получают утвердительный смысл: </a:t>
            </a:r>
            <a:r>
              <a:rPr b="0" i="1" lang="en-US" sz="2100" spc="-1" strike="noStrike">
                <a:solidFill>
                  <a:srgbClr val="33cccc"/>
                </a:solidFill>
                <a:latin typeface="Verdana"/>
              </a:rPr>
              <a:t>Кому НЕ известны строчки М.Ю.Лермонтова о Москве!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частица НЕ может входить в состав сочетаний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едва не, едва ли не, чуть не, чуть ли не, пока не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 Брат считался едва ли не лучшим кавалеристом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Частица НИ употребляется: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для усиления отрицания, которое уже есть в предложении и выражено частицей НЕ, стоящей перед сказуемым, или словом НЕТ: </a:t>
            </a:r>
            <a:r>
              <a:rPr b="0" i="1" lang="en-US" sz="2100" spc="-1" strike="noStrike">
                <a:solidFill>
                  <a:srgbClr val="33cccc"/>
                </a:solidFill>
                <a:latin typeface="Verdana"/>
              </a:rPr>
              <a:t>На улице не было НИ души. На улице НЕТ НИ душ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для усиления утверждения, когда НИ употребляется в придаточной части сложноподчинённого предложения с уступительным оттенком значения: </a:t>
            </a:r>
            <a:r>
              <a:rPr b="0" i="1" lang="en-US" sz="2100" spc="-1" strike="noStrike">
                <a:solidFill>
                  <a:srgbClr val="33cccc"/>
                </a:solidFill>
                <a:latin typeface="Verdana"/>
              </a:rPr>
              <a:t>О чем бы человек НИ рассказывал, он рассказывает о самом себ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частица НИ входит в состав устойчивых сочетаний для обозначения неопределённости высказывания: </a:t>
            </a:r>
            <a:r>
              <a:rPr b="0" i="1" lang="en-US" sz="2100" spc="-1" strike="noStrike">
                <a:solidFill>
                  <a:srgbClr val="33cccc"/>
                </a:solidFill>
                <a:latin typeface="Verdana"/>
              </a:rPr>
              <a:t>НИ рыба  НИ мясо; НИ свет  НИ зар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71400" y="360000"/>
            <a:ext cx="7103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0119f"/>
                </a:solidFill>
                <a:latin typeface="Arial Narrow"/>
                <a:ea typeface="Arial"/>
              </a:rPr>
              <a:t>Различай сочетан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3640" y="3357720"/>
            <a:ext cx="8280360" cy="27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5720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604a7b"/>
                </a:solidFill>
                <a:latin typeface="Arial Narrow"/>
                <a:ea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Заголовок 1"/>
          <p:cNvSpPr/>
          <p:nvPr/>
        </p:nvSpPr>
        <p:spPr>
          <a:xfrm>
            <a:off x="324000" y="907920"/>
            <a:ext cx="396072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1680" indent="-3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 Narrow"/>
                <a:ea typeface="Arial"/>
              </a:rPr>
              <a:t>Не что иное, как…</a:t>
            </a:r>
            <a:br>
              <a:rPr sz="2000"/>
            </a:br>
            <a:r>
              <a:rPr b="1" i="1" lang="en-US" sz="2000" spc="-1" strike="noStrike">
                <a:solidFill>
                  <a:srgbClr val="ff3300"/>
                </a:solidFill>
                <a:latin typeface="Arial Narrow"/>
                <a:ea typeface="Arial"/>
              </a:rPr>
              <a:t>Не кто иной, как…</a:t>
            </a:r>
            <a:br>
              <a:rPr sz="2000"/>
            </a:br>
            <a:r>
              <a:rPr b="1" i="1" lang="en-US" sz="2000" spc="-1" strike="noStrike">
                <a:solidFill>
                  <a:srgbClr val="40119f"/>
                </a:solidFill>
                <a:latin typeface="Arial Narrow"/>
                <a:ea typeface="Arial"/>
              </a:rPr>
              <a:t>Пишутся, если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1) сказуемое утвердительное (в утвердительном предложении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2) возможна перестановка частицы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3) есть союз как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4) возможна замена сочетания частицами только, именно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5) сочетания не являются членами предложения.</a:t>
            </a:r>
            <a:br>
              <a:rPr sz="2000"/>
            </a:br>
            <a:r>
              <a:rPr b="1" i="1" lang="en-US" sz="2000" spc="-1" strike="noStrike">
                <a:solidFill>
                  <a:srgbClr val="40119f"/>
                </a:solidFill>
                <a:latin typeface="Arial Narrow"/>
                <a:ea typeface="Arial"/>
              </a:rPr>
              <a:t>Это было не что иное, как след лис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Заголовок 1"/>
          <p:cNvSpPr/>
          <p:nvPr/>
        </p:nvSpPr>
        <p:spPr>
          <a:xfrm>
            <a:off x="4716360" y="1052640"/>
            <a:ext cx="403236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 Narrow"/>
                <a:ea typeface="Arial"/>
              </a:rPr>
              <a:t>Ничто иное не…</a:t>
            </a:r>
            <a:br>
              <a:rPr sz="2000"/>
            </a:br>
            <a:r>
              <a:rPr b="1" i="1" lang="en-US" sz="2000" spc="-1" strike="noStrike">
                <a:solidFill>
                  <a:srgbClr val="ff3300"/>
                </a:solidFill>
                <a:latin typeface="Arial Narrow"/>
                <a:ea typeface="Arial"/>
              </a:rPr>
              <a:t>Никто иной не…</a:t>
            </a:r>
            <a:br>
              <a:rPr sz="2000"/>
            </a:br>
            <a:r>
              <a:rPr b="1" i="1" lang="en-US" sz="2000" spc="-1" strike="noStrike">
                <a:solidFill>
                  <a:srgbClr val="40119f"/>
                </a:solidFill>
                <a:latin typeface="Arial Narrow"/>
                <a:ea typeface="Arial"/>
              </a:rPr>
              <a:t>Пишутся, если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1) сказуемое отрицательно (в отрицательном предложении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2) перестановка частицы невозможна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3) нет союза как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4) замена сочетания частицами только, именно невозможна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5) сочетания являются членами предложения.</a:t>
            </a:r>
            <a:br>
              <a:rPr sz="2000"/>
            </a:br>
            <a:r>
              <a:rPr b="1" i="1" lang="en-US" sz="2000" spc="-1" strike="noStrike">
                <a:solidFill>
                  <a:srgbClr val="40119f"/>
                </a:solidFill>
                <a:latin typeface="Arial Narrow"/>
                <a:ea typeface="Arial"/>
              </a:rPr>
              <a:t>Никто иной не поможет в беде, кроме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7:01:46Z</dcterms:created>
  <dc:creator>женя</dc:creator>
  <dc:description/>
  <dc:language>en-US</dc:language>
  <cp:lastModifiedBy>студент</cp:lastModifiedBy>
  <dcterms:modified xsi:type="dcterms:W3CDTF">2010-04-30T11:10:45Z</dcterms:modified>
  <cp:revision>72</cp:revision>
  <dc:subject/>
  <dc:title>РАДУГА</dc:title>
</cp:coreProperties>
</file>